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DE09-0A93-4D37-87A4-E1AB75D4F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7CEA-ABE1-450E-B323-EE9AC7BCA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8499-0DE7-4E11-98B2-47B472BEB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C73E-9479-4BD9-91CC-F4F9A98DF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29C33-DF98-4D88-A2D2-D0CFF1CBC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375FF-0DA0-4F28-9283-C3532A57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5BE77-9732-4CE8-A67C-A8C1FFDB0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E5F43-0402-490A-89AC-6669FD27A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D06B0-F3EF-471A-ABE3-6198F6F48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4EB05-0832-4B48-BD65-12BEA710C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1BE3B-B983-4DB7-951D-1E618516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5FD3-4CC6-4901-8F2F-D3ACD72C5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23F21-5957-4125-A9AB-3E7CD048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E248C-FB13-40C3-8163-5C895C7D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801D6-5045-4B55-B531-3ED4276CB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88D2A-1C51-44A4-A924-016469499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E29DB-05EB-4957-97F3-9B8FF0565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AF9F-702A-4210-A4CA-7FAAEE149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80AA-D700-4666-AA81-EF31F4D6C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973D-DB58-43F4-9D11-D4F1AEA10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E9E3-3CC0-4238-9E0D-C8724D6F8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F5F0-16F7-432D-B3FD-0CCFF922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C9F0-83FD-44A2-B902-87850659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0B44-3AAA-48A0-AFD2-4062841A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87CA5-50AB-450D-A23F-5FF96BA94D83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A5C3C-D0F6-43E3-BCA1-442D5F7CE848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086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7d47d"/>
                </a:solidFill>
                <a:latin typeface="Arial"/>
              </a:rPr>
              <a:t>Mis Vacaciones en San Juan, Puerto Ric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38080" y="52574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Fui a la Caribe Hilton San Juan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3353040" cy="2701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4267080" y="2438280"/>
            <a:ext cx="3200400" cy="21322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819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Olivia Barbieri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98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El Balneari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Querida Bella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  <a:ea typeface="Arial"/>
              </a:rPr>
              <a:t>¡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Hola! Hoy hace buen tiempo. El sol brilla en el cielo. Hoy llegu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  <a:ea typeface="Arial"/>
              </a:rPr>
              <a:t>é a la Caribe Hilton San Juan. Llevé muchas ropas y dos trajes de baño. El balneario es muy bonito. Tiene una piscina grande y muchas tiendas. En una tienda cerca del hotel, compré la crema protectora porque mañana voy ir a la playa. ¡Adiós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  <a:ea typeface="Arial"/>
              </a:rPr>
              <a:t>Cariñosos saludos, Olivia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343400" y="4038480"/>
            <a:ext cx="3295800" cy="24368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6172200" y="60199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El</a:t>
            </a:r>
            <a:r>
              <a:rPr b="0" lang="en-US" sz="1800" spc="-1" strike="noStrike">
                <a:solidFill>
                  <a:srgbClr val="c1605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Balneario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La Play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2388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Querida Meghan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Hoy hace calor. El sol brilla en el cielo. Fui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  <a:ea typeface="Arial"/>
              </a:rPr>
              <a:t> a la playa con mi familia. Mi madre llevó una toalla playera porque ella tomó el sol. Yo no tomé el sol, y yo no practicé el surfing. Nadé en el mar, y buceé en el mar, también. Mi prima y yo buceamos y miramos muchos pescados. Mañana, voy a jugar al tenis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  <a:ea typeface="Arial"/>
              </a:rPr>
              <a:t>Cariñosos saludos, Olivia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590920" y="4191120"/>
            <a:ext cx="3124080" cy="23446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3048120" y="5638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La Play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El Teni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7386480" cy="36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Querida Eveline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  <a:ea typeface="Arial"/>
              </a:rPr>
              <a:t>¡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Hoy hace buen tiempo! Hace sol y hace color. El sol brilla en el cielo. No llueve. No est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  <a:ea typeface="Arial"/>
              </a:rPr>
              <a:t>á nublado. Fui a la cancha de tenis al aire libre. Jugué al tenis con mi amiga. Llevé mi raqueta y una pelota. Mi amiga llevó sus raquetas. Ella marcó dos tantos y yo marqué tres tantos. Gané el partido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  <a:ea typeface="Arial"/>
              </a:rPr>
              <a:t>Cariñosos saludos, Olivia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880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2880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4038480" y="4038480"/>
            <a:ext cx="3353040" cy="25830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4572000" y="44197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fedef"/>
                </a:solidFill>
                <a:latin typeface="Arial"/>
              </a:rPr>
              <a:t>La Cancha De Teni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768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768" fill="hold"/>
                                        <p:tgtEl>
                                          <p:spTgt spid="2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" dur="768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" dur="768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El Muse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7315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Querida Isabel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Hoy hace mal tiempo. Est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  <a:ea typeface="Arial"/>
              </a:rPr>
              <a:t>á nublado y llueve.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ui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  <a:ea typeface="Arial"/>
              </a:rPr>
              <a:t> al museo con mis amigas. Fuimos al Museo de San Juan. Miramos un video de San Juan. Después fuimos al museo, fuimos a las tiendas. En una tienda, compré recuerdos, como una camiseta con las palabras “San Juan,” unas gafas de sol, y un sobrero. Mis amigas compraron la misma camiseta. ¡Hoy fue muy divertida!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  <a:ea typeface="Arial"/>
              </a:rPr>
              <a:t>Cariñosos saludos, Olivia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1" name="" descr="Museo de San Juan"/>
          <p:cNvPicPr/>
          <p:nvPr/>
        </p:nvPicPr>
        <p:blipFill>
          <a:blip r:embed="rId1"/>
          <a:stretch/>
        </p:blipFill>
        <p:spPr>
          <a:xfrm>
            <a:off x="304920" y="3733920"/>
            <a:ext cx="3504960" cy="26431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4191120" y="3733920"/>
            <a:ext cx="3504960" cy="26287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371600" y="4114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El Museo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876920" y="56386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fedef"/>
                </a:solidFill>
                <a:latin typeface="Arial"/>
              </a:rPr>
              <a:t>Las Tienda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54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La Piscina y El Restaurant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585200" cy="26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Querida Catherinna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  <a:ea typeface="Arial"/>
              </a:rPr>
              <a:t>¡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Hola!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  <a:ea typeface="Arial"/>
              </a:rPr>
              <a:t>¡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Hoy hace buen tiempo! Hoy fui a la piscina con mi familia. Llev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  <a:ea typeface="Arial"/>
              </a:rPr>
              <a:t>é mi traje de baño. Nadé con mi prima. No nadé en el mar. Después fui a la piscina,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fui al restaurante de Ramiro’s con mi familia. Mi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  <a:ea typeface="Arial"/>
              </a:rPr>
              <a:t>padre tomó unas enchiladas, y mi prima tomó unos enchiladas también, pero yo no las tomé.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Tom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  <a:ea typeface="Arial"/>
              </a:rPr>
              <a:t>é unas tacos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  <a:ea typeface="Arial"/>
              </a:rPr>
              <a:t>Cariñosos saludos, Olivia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380880" y="4038480"/>
            <a:ext cx="3200400" cy="24019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4343400" y="3962520"/>
            <a:ext cx="3200400" cy="23968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380880" y="60199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La Piscin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400800" y="3962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Ramiro’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7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98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98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98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8T14:03:07Z</dcterms:created>
  <dc:creator>barbierioli</dc:creator>
  <dc:description/>
  <dc:language>en-US</dc:language>
  <cp:lastModifiedBy>barbierioli</cp:lastModifiedBy>
  <dcterms:modified xsi:type="dcterms:W3CDTF">2011-11-29T15:08:53Z</dcterms:modified>
  <cp:revision>28</cp:revision>
  <dc:subject/>
  <dc:title>Mis Vacaciones en San Juan, Puerto Rico</dc:title>
</cp:coreProperties>
</file>